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7B2-39C5-43D9-B461-E182224E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67C-1D00-4159-8021-6B642BD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8D0-DEE8-434E-8C89-1368F3AC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CF3-4A36-4836-8294-F87989A5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C443-48CF-4B49-958D-6B7B29AA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6E3E-838A-414C-9791-E60973D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D7F-5367-4BC5-9D3D-44B6894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8B7C-5159-4DC5-9CBF-82C805B2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73B-4B0A-4F9E-A37A-E49B4B1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8527-3C3F-432F-91F7-3DBD1F10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CE2-5C53-44CC-8E18-76E41703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F50-C603-41A2-A23C-0E83C1D4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CB4-2138-4066-9312-8CCC92E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8FC-D9B3-41B9-95A7-E36777D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D592-DE4D-4721-8C0E-7FE66E4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CBE-18C7-4908-A0F9-1AE39485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32B-ACBB-4BC3-96FF-29165F52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6A9-97F9-41E3-BDF0-12E678E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516-0821-4CDF-8CFD-F5CFCF0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5A7-41BD-4EF0-8C3A-549C2CF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1BF-20AE-45AB-A8C4-3EB835C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B2A-F037-406F-946C-83FEE87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69-0252-4DC5-9F91-FA9E6F2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AE4-508A-4E66-8DB8-2C9FA0B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6C36-23B3-4B17-B7D5-1451208A4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7A6-D95F-4B7A-A308-FF30A5DA7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2683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Cell Transport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Pages </a:t>
            </a:r>
            <a:r>
              <a:rPr b="0" lang="en-US" sz="4500" spc="-1" strike="noStrike">
                <a:solidFill>
                  <a:srgbClr val="ccecff"/>
                </a:solidFill>
                <a:latin typeface="Tahoma"/>
                <a:ea typeface="Times New Roman"/>
              </a:rPr>
              <a:t>41-42 &amp; 184-189</a:t>
            </a: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48640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88620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3720"/>
            <a:ext cx="2895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vent enter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bigg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038480"/>
            <a:ext cx="1079640" cy="167652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632" y="1056"/>
                </a:moveTo>
                <a:cubicBezTo>
                  <a:pt x="316" y="928"/>
                  <a:pt x="0" y="800"/>
                  <a:pt x="8" y="624"/>
                </a:cubicBezTo>
                <a:cubicBezTo>
                  <a:pt x="16" y="448"/>
                  <a:pt x="348" y="224"/>
                  <a:pt x="68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Facilitated Diffus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, using cell membrane channels; requires no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Active Transport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concentration; requires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486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33720"/>
            <a:ext cx="2895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ute enter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bigg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038480"/>
            <a:ext cx="1079640" cy="167652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632" y="1056"/>
                </a:moveTo>
                <a:cubicBezTo>
                  <a:pt x="316" y="928"/>
                  <a:pt x="0" y="800"/>
                  <a:pt x="8" y="624"/>
                </a:cubicBezTo>
                <a:cubicBezTo>
                  <a:pt x="16" y="448"/>
                  <a:pt x="348" y="224"/>
                  <a:pt x="68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Large Molecul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(Bulk) Transport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ar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molecules (food or waste) into or out of the cell, using extensions of the cell membrane; requires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Homeosta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eping constant internal conditions; cell transport allow for homeostasis to occ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1371600"/>
            <a:ext cx="180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concentration gradient (from high to low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733920"/>
            <a:ext cx="1800" cy="1249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105520"/>
            <a:ext cx="6172200" cy="14475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mo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facilitated diffu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9625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371600"/>
            <a:ext cx="180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the concentration gradient (from low to high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Large Molecule (Bulk) Transpo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371600"/>
            <a:ext cx="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dependent upon the concentration gradi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733920"/>
            <a:ext cx="0" cy="1249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05520"/>
            <a:ext cx="6172200" cy="137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cytosis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cytosi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Review the Cell Memb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CellMembrane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6197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Endocyt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0" name="Endocytosis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Exocyt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2" name="Exocytosis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6688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Solut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.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olu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- the part of the                                                                                                                solution that is being                 dissolved (ex:  kool-aid  powd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Solut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2.  Solv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- the part of the                                      solution that is doing the              dissolving (ex:  wat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Diffus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(amount)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; does not require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638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7339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4343400"/>
            <a:ext cx="1104840" cy="1600200"/>
          </a:xfrm>
          <a:custGeom>
            <a:avLst/>
            <a:gdLst/>
            <a:ahLst/>
            <a:rect l="l" t="t" r="r" b="b"/>
            <a:pathLst>
              <a:path w="696" h="1008">
                <a:moveTo>
                  <a:pt x="696" y="0"/>
                </a:moveTo>
                <a:cubicBezTo>
                  <a:pt x="372" y="84"/>
                  <a:pt x="48" y="168"/>
                  <a:pt x="24" y="336"/>
                </a:cubicBezTo>
                <a:cubicBezTo>
                  <a:pt x="0" y="504"/>
                  <a:pt x="464" y="896"/>
                  <a:pt x="552" y="1008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2514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ute exit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small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Osm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vent (water)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; does not require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8:41:46Z</dcterms:created>
  <dc:creator>Robert Burke</dc:creator>
  <dc:description/>
  <dc:language>en-US</dc:language>
  <cp:lastModifiedBy>Plano ISD</cp:lastModifiedBy>
  <dcterms:modified xsi:type="dcterms:W3CDTF">2004-09-22T16:37:03Z</dcterms:modified>
  <cp:revision>28</cp:revision>
  <dc:subject/>
  <dc:title>Cell Membrane  &amp;</dc:title>
</cp:coreProperties>
</file>